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191-17B7-4EEA-9E1C-B558689B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A46-3495-4BBB-B025-AE9DFDDE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62D-A09A-4CBA-B947-51A3767E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3BE-09B7-4FC5-B9E9-4DE4C4EC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D59-025A-4904-9214-0923991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B6C-F57F-448A-8C07-0C9023C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018-5F38-42ED-A63E-CCCF602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93E-4BAE-4406-B813-F784576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8B3-949A-4DDF-8A76-4F49772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41C-1DC5-4345-A3F8-709C88C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284-9FF7-4F00-AC6F-1C9DD390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C4E-D551-4E3D-8437-405D57B6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3CC-749C-4B68-97BF-08FA08E0D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Lucida Handwriting"/>
              </a:rPr>
              <a:t>LA VIL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680000" cy="465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DÉCRIRE UNE 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ille est située dans le nord / le sud / l’est / l’o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lle est en Andalousie (rég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lle est près de / loi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’est une grande / petit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ombien d’habitants a-t-elle? Elle a 10000 habi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y a un fleuve / un océan / la mer / une montagne / la campag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y a beaucoup de magasins, cinémas, restaurants, collèges, banqu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8214"/>
                </a:solidFill>
                <a:latin typeface="Arial"/>
              </a:rPr>
              <a:t>GRA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S ARTICLES CONTRAC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JE VAIS / JE S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À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À 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AU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collè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À LA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bibliothè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À L’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ég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AUX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magas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JE V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    +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 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U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llè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 LA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bibliothè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 L’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ég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S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agas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 PRONOM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33"/>
                </a:solidFill>
                <a:latin typeface="Arial"/>
              </a:rPr>
              <a:t>O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is ATTENTION!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us achetON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996633"/>
                </a:solidFill>
                <a:latin typeface="Arial"/>
              </a:rPr>
              <a:t>On ac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205000"/>
            <a:ext cx="3024360" cy="1513080"/>
          </a:xfrm>
          <a:prstGeom prst="irregularSeal1">
            <a:avLst/>
          </a:prstGeom>
          <a:solidFill>
            <a:srgbClr val="bbe0e3">
              <a:alpha val="8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 FÉMI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131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ègle générale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 ajou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–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u masculin. Ex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e marchand de fruits </a:t>
            </a:r>
            <a:r>
              <a:rPr b="0" i="1" lang="es-E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La marchande de fr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47640" y="2637000"/>
          <a:ext cx="4608720" cy="312732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9162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émin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libraire / la libr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è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boulanger / La boulang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coiffeur / la coiffe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harmacien / 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en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rofesse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5465"/>
                </a:solidFill>
                <a:latin typeface="Arial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4038480" cy="4681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00"/>
                </a:solidFill>
                <a:latin typeface="Arial"/>
              </a:rPr>
              <a:t>LES BATÎ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entre com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ollè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ég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jardin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rc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 m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038480" cy="4670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808080"/>
                </a:solidFill>
                <a:latin typeface="Arial"/>
              </a:rPr>
              <a:t>LA 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rrêt d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oulev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f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assage cloû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ié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ott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00000" y="1052280"/>
            <a:ext cx="3887640" cy="482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00"/>
                </a:solidFill>
                <a:latin typeface="Arial"/>
              </a:rPr>
              <a:t>LES MON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athéd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hâ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038480" cy="452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cc00"/>
                </a:solidFill>
                <a:latin typeface="Arial"/>
              </a:rPr>
              <a:t>LES MAG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oulang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harcu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librairie-pape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gasin de chau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gasin de vê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arfum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âtis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salon de coiff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2920" y="764640"/>
            <a:ext cx="4038840" cy="452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Arial"/>
              </a:rPr>
              <a:t>LES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oulange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oulan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harcutier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harcut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âtissie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âtiss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infirmier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oiff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oiff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serv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serv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endeur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end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harmacien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harmaci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rchad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archa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librair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libr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rofess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rofe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038480" cy="45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cc00"/>
                </a:solidFill>
                <a:latin typeface="Arial"/>
              </a:rPr>
              <a:t>LE CHE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a tout dro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ourne à gau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ourne à dro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verse la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asse devant le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2920" y="764640"/>
            <a:ext cx="4038840" cy="4526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66"/>
                </a:solidFill>
                <a:latin typeface="Arial"/>
              </a:rPr>
              <a:t>DANS L’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vant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gauche d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côté d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 fac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800080"/>
                </a:solidFill>
                <a:latin typeface="Arial"/>
              </a:rPr>
              <a:t>OÙ JE VAIS / JE S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Au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’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AU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masc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fémi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voy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Arial"/>
              </a:rPr>
              <a:t>D’OÙ JE V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u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U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masc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A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fémi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’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voy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69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33"/>
                </a:solidFill>
                <a:latin typeface="Arial"/>
              </a:rPr>
              <a:t>LES TRAN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v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am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8840" cy="4526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99"/>
                </a:solidFill>
                <a:latin typeface="Arial"/>
              </a:rPr>
              <a:t>Je v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990099"/>
                </a:solidFill>
                <a:latin typeface="Arial"/>
              </a:rPr>
              <a:t>EN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v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b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m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990099"/>
                </a:solidFill>
                <a:latin typeface="Arial"/>
              </a:rPr>
              <a:t>À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Où se trouve le restaur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xcusez-moi, Monsieur, je cherche la banque, vous pouvez m’aider, s’il vous plaî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ous pouvez me dire où se trouve la piscine, s’il vous plaî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ombien coûte un stylo? Un euro quar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Ça fait combien? Trente cen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On va au centre commerc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Je viens du ciné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est huit heures, c’est fer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est pâtiss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travaille dans une pâtisse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our nager, je vais à la pisc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24:03Z</dcterms:created>
  <dc:creator>ORTEGA</dc:creator>
  <dc:description/>
  <dc:language>en-US</dc:language>
  <cp:lastModifiedBy>ORTEGA</cp:lastModifiedBy>
  <dcterms:modified xsi:type="dcterms:W3CDTF">2010-05-25T16:58:59Z</dcterms:modified>
  <cp:revision>5</cp:revision>
  <dc:subject/>
  <dc:title>LA VILLE</dc:title>
</cp:coreProperties>
</file>